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422-DF86-4E43-BFE5-ABA25FEE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CBF-58B5-49D6-B143-709A8A2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746D4-516A-4109-81A3-21F0B23A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E9FC-B26F-4F26-999C-74C52B0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F82A8-203E-4185-AB1B-EC62753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78202-B136-4453-8ECB-4DA998F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723B-9678-4B27-98ED-290C749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B7945-1D3E-4CAB-A2D3-76F3F7B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94B6-9301-41CB-BB04-EADE5C5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0C357-62E7-4CDE-91C8-FD81668E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4655E-1CA9-4FE8-9795-F8231884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6670-5403-49CD-B570-78EEE014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6A7-1740-41E6-B329-BB75EB97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4A1E6-1A7C-4EF2-B2D0-6D5090A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63F1-A6D1-4927-836B-971CEAA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28F1-EB33-4F14-BB34-93F6D2D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5608-6647-4270-B24F-E95D20AD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5E9A8-85C2-401F-9F05-9570C5A5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258D-EEB1-4F5C-93F9-2522B2A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3CC1E-A17C-4A32-8EDD-A102D02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31469-0D08-4938-B9CD-0AE896E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8802A-2CD3-499B-92C4-CB6916F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4216-73EC-4403-940F-71D7ADC2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226-0F77-4F11-A4DF-E69D1DFA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31C75-6B99-4898-B4D9-0E09B8B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E2F8D-BE7F-4BD6-B657-3A8EAF42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DFE77-20D4-45DA-A3EA-2D688D8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2B5D-6519-4268-8F1E-6C092A2E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A376-51BC-4723-B603-6EB5066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443EA-8228-499F-BC5F-8F2E210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995C-86C5-4C3D-9ADE-507494F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0E73-0375-44E8-BEFB-6D76EC8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0B81-A037-48AC-A574-F548D5B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C8829-0C0E-409F-9ACB-1DC6E012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9AF3-FC26-4B54-AC7B-7AF8A25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EC1CF-6A41-4D94-AD85-652E817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EF618-8092-4662-825D-9994249C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19052-E812-45D9-9802-52F0278C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89239-4FF9-4E9C-9455-B2AB23AC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0105-D403-47CF-BBDE-A2B24F8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394B8-DD1A-437F-B930-A6DC68A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85112-E887-4DA9-A390-9396DC7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A684-6CDE-4C6D-ADBF-5EEC02A9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711D4-76EE-4513-9549-83A8BAE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6BD62-3474-4FBF-BE71-96CEF9E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41B6-06AE-4A2C-8FC5-56AAD559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EED4-3BF6-4560-8157-16BACAC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AF788-D8DE-4B77-8458-C2C9004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73213-2A13-4BD7-9598-E4C2E48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C77CB-D77B-4E7A-8B05-3BB48D90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FF91F-42F9-47C0-A9BE-A5C66338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18797-5C6F-4800-B810-1E70E33E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D342-B6D2-473D-AB43-E9132A8D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C147-B6D3-49AA-977A-565F4A9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8671A-F0C5-41E0-8867-70A23430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42D2D-C92E-4D17-A069-2C8AF33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823E-2B20-4039-B277-5B88FF9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9C3F1-5F49-44D5-B7DE-501BEDA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91EA6-C999-4392-9FB8-7C62ACA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5CD7D-7272-4A4D-9229-53CD7E6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56DBA-D96C-44B9-BDC8-E3E1E63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81B22-CBAC-4B14-BFAD-4F03767E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4D897-9FE0-4752-8FBA-3F490CF0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7337B-2754-49C7-8609-B0F24BC1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8295E-CCD1-4E8D-9A38-743F7983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CE9E1-A1BE-48B8-8E64-306007C5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6DAA7-9743-43CC-8AC9-E367BA25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C02B-33BD-4FE2-9006-9E9BA6A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10FB5-3DC1-4D07-89D5-A129ACD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B819A-47F1-4C6E-98B0-108660D8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6820A-1493-4132-9855-12FD6C9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2B72C-024A-4797-80C0-CB58EBB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8C91D-9659-4864-926D-DD31836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36639-7094-4722-B599-0676174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6A8CA-E60A-4B73-8F4E-95BCC695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EAC15-4858-4DF0-98D7-469EBC44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A2056-8D92-493C-BE5A-371D7EC9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76298-8C9C-49AC-9D9E-144C603A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AFB-207A-4DDD-9BA4-BEF7DF0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A8706-C75F-4E6D-9409-045F5F26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DD0A9-83FD-46DA-877E-21DEBE1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750E1-C6FC-4305-AE48-C1B1ADF6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29735-483C-4D97-9AB1-40AA746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B90C0-2C90-4C03-8539-EA379D89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E8CFA-9AD1-4892-B537-81EA11F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D35B4-5CE4-40B6-9D57-BDEB711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9E625-AD3F-4722-A9AF-0B706C6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F98DD-787D-4BAF-BA5C-546B1F6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E3822-B4F7-4941-B1AC-39A7FD50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8B8A-161F-42BA-BE61-4FE2B5F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3E6C6-2F2E-468D-84A1-E924B6D3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BFE8C-73AF-4125-937E-8EEA1B6A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425A1-12FF-4B75-BE4B-B7CF158A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98325-7B15-49AB-B48A-E2AAAEC1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70FD4-B7CA-4382-96B3-258F0D9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2F47F-B444-4345-AFA9-1BE98E69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38EB5-ADDF-47B6-A35A-74C1AF2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85732-A527-4C7D-B9DF-B33BA4B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4DA39-783D-4F3A-9323-008E73A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F230C-3101-43EF-8A70-F3BC102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A658-8936-491A-8FFC-50BE87C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7BD24-1410-4A03-90D8-B9DE5AF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D00E3-C978-4C47-BB8D-6180BD80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F0698-B26B-472F-A021-78FA4610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E54AF-161F-4E90-9912-EA40DA4E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850B3-6B1E-4CBD-9575-6072995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2E0B7-61BB-485E-9712-D4460AD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A92F9-8BCE-4C2A-A0A7-80A4DD2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1288C-0291-4CC6-9E93-4FAAC75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D5560-48C5-4E66-BA3B-FDCC778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476F3-68DC-4DFD-9E6B-8D920E8B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731-BD0C-4E24-AB6A-2BE73371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D364-A0DE-45F4-B423-A3732C3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03F7E-F9E2-488A-B8A4-BF10AED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17386-499F-42E8-80DC-A82797D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7B737-E693-4A69-943D-006564D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08C49-8404-4013-8AF9-38D94E4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B4CAC-470B-494E-A5C9-FDA50D52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7F013-AD67-411B-A948-9F0A2BD1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E4F03-4A63-46C1-86CC-D155F069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EF4EF-3A2A-4945-9391-E46912A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DDA1A-9219-4674-802A-8880CD64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98255-10C2-40B1-8BAE-1FCB1734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3DEB-0B30-4EAC-B82C-7FBC985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00F33-0544-4E09-989E-D3A6A4EA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25639-85C2-4DF0-A27C-15559FD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60C63-17E5-4C87-98EB-F51F634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D43B5-1915-4827-9F25-9EEFDCEE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692DB-081C-436B-A488-03B9601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D96C4-02CA-450E-9A27-343F2E8B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3B6CB-13F3-46AF-961D-A4DAAD2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97BA5-7863-404D-B044-5A319EFC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99E72-F96A-42C3-A4FD-D8DECFE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9167E-CB2A-49B1-AF59-4A8B6C6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DBA0-A3AF-464E-B83B-5C442B9E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9B0AD-E292-42A1-8A4D-C06817E6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7AF6E-6D16-4D1D-9E1A-6AF8DB0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55390-ACB4-41DA-A3FC-EF3FB33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4776C-6035-4FDD-9E2E-F197387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CD44E-F108-45FF-96E9-EEDCEC0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B9D6E-E302-4CEA-BF61-7AD6055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A3F01-2A76-4BA4-B88A-D6CC73A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E93A7-9E07-48CE-8BA4-5BADBB0E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206F7-4917-4B65-BB59-D40168B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C8D09-E335-43CB-8C0C-5F90474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A3E-7480-4F2D-8DB4-19A3B9DE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B3FD2-8DD8-41DB-B1DC-485DC9F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61049A-7C2F-4CCC-8F39-6748A68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21D99-E892-4A98-87D5-BD4C937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E339B-9019-4B18-A9EE-200E10C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6C266-70E1-4D7F-9940-8E944CE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7AA9D-7556-44FA-B34C-10A0647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6123C-8D58-4F35-9B13-70A68C7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42F53-9FEF-496F-AFFE-3DDA6039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6C527-0894-4FE6-999C-1E5A741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6A6E1-979F-44CA-8962-15534D2E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7C7B-87AC-4DF7-B827-DC699A1B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0A6E7-5FE0-4982-A99B-7B4173E5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383D1-33C5-48E7-92C1-5F26B122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38983-DDA3-4438-A692-38CF6B8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11BAF-5B02-4D89-B032-DACF79DA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D8549-2874-4A2A-8562-D4E3367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38158-FE64-4EBB-B22F-CFE7A629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CDEB2-ED6E-40EF-AEDA-8668BED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53949-622B-4256-BFD3-97859FF6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9D349-692C-46D0-9D69-CFAFD7B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E9AF0-87F7-4BD4-B89D-DC9661F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B2EC-EC00-4324-9F72-EC3BC5F0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6ABBD-1302-4DD2-BD59-2E0C3CA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378D1-6E45-43F7-963E-5E4FFEF2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E6C73-94A8-4021-BBCC-3850734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24C6C-9C17-4801-9C90-E6BC2C38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6517B-8B0A-48C4-8F16-C30FFC61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97FD8E-F805-45CA-8FAA-71AA461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DAFA2-4878-4C3F-AEC3-B13B0EC1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4D175-C316-466F-8165-3AE3DC7D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FE8029-F84B-472A-9DB9-4D03FC9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9623B-2E95-4EEB-B9CD-54DCC21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8078-3806-4530-B398-BC3E410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8A775-22EE-45A1-935C-CC15B9F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339BCE-77AB-46D3-B88A-8744E71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4B5FDE-BBB6-49DA-961C-83F91C8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05F2A0-A90E-4EFC-AF4C-634E707F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B05F9-6746-467B-8875-7CB2C8D1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C8C255-0727-431C-B073-9293E017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BCCB85-611C-44CB-B2A7-60BB5436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DD88FA-A15D-4BE7-8A94-DCBADF0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3BF2B5-4626-4CA3-9C82-C692359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21DD4-A34A-4E10-B591-43670C5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7062-00FA-4ED0-A1F9-D7A561AB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BF914D-DA99-43EC-AB18-94454A51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4B213-FB34-49D1-A6BF-90276BA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ED7D2-B0D1-4623-A256-8E12001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D0CBA-FD96-46D7-B557-BE09B0E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E94948-8E78-4801-B581-C7E9BB9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8E3D9-122A-46A3-81FC-9155965B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784D80-5D65-4F42-83BC-04F251C4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3603-722E-48D3-9AE7-CA0DBE28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5CF4-B459-4EF9-BBF8-EC1CE0E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562-29C3-404F-9260-F601B64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7EC5-7DE8-4909-B7BB-913B4AD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1541-EDFD-434D-8EFA-AA2C144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B901-E852-4E8E-8BEB-558A711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04BF-CA5E-44C7-88AC-39F9BA8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4929-822E-4408-ABDB-5A4ED29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95A2-3F9C-440D-88BD-38583B24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D025-30E0-455D-A436-704A9E3B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9D91-8308-411C-95F5-D18A90A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ACC6-C2B3-4C5A-AFB0-80AC6AA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0B98-733B-4297-A306-9CDA23F2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28F-CA42-4B78-A485-AB6E316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32C2E-FDBB-4A36-9DC2-D4962AA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A246-5DAA-4F06-9F1C-EF628F91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8EA9-1A69-41EE-91B9-F9FD2E0F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8DA0-79F4-4B3C-A21D-601EC9B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A75F-55F6-4580-B89F-D454683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CF4D-0A86-4790-AE15-1D0266E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1F40F-31F7-4D3D-8594-ADFECA47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A2B7-9AB5-488C-A635-EA42E586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EDBA-7DB8-4822-BCA2-DAEC32EB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686B-CC13-431C-B793-EFE32F42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295-0560-4A83-AC7C-A3DB0EB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2093-B052-49A6-9CF6-D175544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241F-5C48-4F83-AD55-2069729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2F9CA-35E8-4547-AC0B-9A4B5D4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13D7-7C15-4B2F-9527-23F656B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CDC1-B0F9-47A8-A1F7-5DD97313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558D-AD8D-4F40-A579-B55A356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C8D4-95F9-4A22-9995-6C97B320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759E-8F6B-44F1-9CB3-266E19F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0300-38B8-42C3-A576-71C1E8B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EC066-B918-4835-A646-C026E361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58D-AA57-49F3-9C88-53678BD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6CE0-A37E-4063-9ED0-83DDEB3B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D2D9-F4BB-4F2F-B107-CE1830AB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89915-BE1C-4B13-96BC-3A8E980A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A4FE-1865-4EDE-B089-2FF0BE8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85F2-ED55-4B29-8626-BB7F427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50FD-CCEE-4151-AE0C-E8D0E935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DE6A-94E2-4AA6-931E-DC756618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E0B1-2CDE-48AB-8C21-634D72D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4229-3886-4F56-9AA6-B9C8189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44F3-BBFD-4AFE-9598-78A3B8A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B2A-47F2-4E71-BF00-E5FCC80F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408E-C8CA-4027-9FEB-5E84DC7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9D93-637D-40D9-8E3B-AA1D2872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C7D2D-3FA9-4613-A06F-380D68F3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BE1D7-0BCD-4097-94F8-8BA104EB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2C79-7F9C-41FE-8FFC-6B37DB1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18A8-0208-435E-BF28-E2C53FA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94CD-8BA3-4D87-AD1B-EF3CAAE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718D-9A39-44DC-996A-A1FAA98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AEA9-0E2A-4C8B-88B5-A90A9B86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BCAA2-AEF1-46CA-9E64-42D217A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C9A-51B1-4B3E-9E11-0E929EF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1952F-C6C3-4666-B831-826EE81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E15B-0874-4491-BEF6-D7AFA54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0141-3C98-47CA-86B9-B2502A6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159BA-BA4E-4840-9F20-262768B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B833-DA07-4584-A3A6-8727515F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459A-2E87-45EB-8C9C-825EFCB7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C7B50-3B81-4B81-880A-00FEB0DA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A1DC2-9AF9-4C49-8D79-640854D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9687-0A3C-4FBD-B50B-9220C7D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0A9CA-B6BF-4A82-8A27-3A0ADEB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BAF-A1FF-4AAE-8B95-6BB2A6C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2E25-8DF9-4AF2-B213-C795E9FA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8C5F-7592-4301-ADF0-4480B4A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44B3-3A4E-4146-AD2B-96B5044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762FC-CB0A-4BAF-95F9-AE392F5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7AC47-4374-45CC-800B-781FEA8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1589-BD5F-486C-BE64-4F7E3F9F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015B-5926-48D9-9D3B-0282D486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A968-0DA5-445E-AC4E-C07D8518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8FC4A-C330-4C24-9BAA-7BBDB0E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9D64-40C4-4DFF-84E6-84D61BE7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FD0-AC92-44F0-8989-FA90EE0CA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373F-E7FB-432B-A813-3F0983F7F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E33-0087-4DFF-8572-F341E6EC9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6F3-259F-4347-9C3A-295590A54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64F-290F-48F0-8438-11DD4F888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BD9-F969-4C5B-B4B2-BCA87BB40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161F-180E-42EB-8D96-10A381454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263-4FA4-47AA-9BBE-28D9BB450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A48-7E42-4035-92B5-0736409BF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E74-BF5F-4860-94C8-60275B62A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6BC0-E2A6-4B6A-989D-003B918172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153-4B4C-45EC-A036-A31AD32D5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EEAB-EB05-4352-AECE-C90B45821F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5B8E-9281-46ED-85FE-CFF311FEEF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4FE-EC92-4E05-9999-F8576C23D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7686-9224-4380-8381-3D1324289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3E1-3721-4DF6-A101-EA5040562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758-85D0-4A7D-8B7C-35EC8AC26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0A8F-372A-4DBD-801F-721B419C1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836-4D67-43D5-BE20-7507CBEC3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A11-70CA-4BD7-A101-76373D239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094-62B3-4A23-9C41-97B157090C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5B4-4C81-4C99-951E-AA59AA9BB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D3A5-8349-41BC-A7EB-04834654A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B7D-D808-4DCF-BA0D-DD6BD96F2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556-43B6-4D6C-9299-9D7DA07FE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204-E064-4064-BAD8-2E85F2482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A443-B44C-4A1A-B816-05245E91B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DDFD-3939-4E34-B4E8-A64358A1C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C12-0F16-4385-915B-448FE00CA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5A11-1AB7-4637-931A-25292D51F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E40-3763-4FFE-BA29-F130D684F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EF0-C4A6-46CE-9B89-E534BDE6E7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A2A-6A81-42BB-BE85-3642A9757B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FAE-624E-495F-881A-4CA774400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B2F-D8B5-4E6D-8147-66B32F919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5E77-4AB0-4C65-90FB-F54D28463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303D-DE9E-4A09-8B96-A41A9D6531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E0E-9A3E-464B-967A-67FD6A995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2221-62D6-45F6-B30F-2F4EB8E70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E30-F622-4678-AAFA-2EAF2C1ED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23B-F74E-4EB1-BEE4-079C923DF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504800" y="3119400"/>
            <a:ext cx="61344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1080" y="1819440"/>
            <a:ext cx="8781840" cy="3219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635280" y="3976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610400" y="3976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6148" descr=""/>
          <p:cNvPicPr/>
          <p:nvPr/>
        </p:nvPicPr>
        <p:blipFill>
          <a:blip r:embed="rId4"/>
          <a:stretch/>
        </p:blipFill>
        <p:spPr>
          <a:xfrm>
            <a:off x="1763640" y="4451400"/>
            <a:ext cx="2160720" cy="49212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6149" descr=""/>
          <p:cNvPicPr/>
          <p:nvPr/>
        </p:nvPicPr>
        <p:blipFill>
          <a:blip r:embed="rId5"/>
          <a:stretch/>
        </p:blipFill>
        <p:spPr>
          <a:xfrm>
            <a:off x="5753160" y="4437000"/>
            <a:ext cx="216036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00080" y="763560"/>
            <a:ext cx="8943840" cy="58960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539640" y="109692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68360" y="145584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38200" y="3070080"/>
            <a:ext cx="208764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466560" y="3429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755640" y="443880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684360" y="4797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8"/>
          <a:stretch/>
        </p:blipFill>
        <p:spPr>
          <a:xfrm>
            <a:off x="682560" y="5734080"/>
            <a:ext cx="367344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9"/>
          <a:stretch/>
        </p:blipFill>
        <p:spPr>
          <a:xfrm>
            <a:off x="611280" y="6093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0"/>
          <a:stretch/>
        </p:blipFill>
        <p:spPr>
          <a:xfrm>
            <a:off x="611280" y="6381720"/>
            <a:ext cx="367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19160" y="1967040"/>
            <a:ext cx="8905680" cy="29239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151272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453708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453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9:1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